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974-E44A-4F76-B112-0D08E71D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CB0-AD62-46EF-8EF4-B61C8FE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EC6-BA59-49E1-A9A6-FD249337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A1B-D64C-42EB-A4D2-73BCA069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96E3-E2FE-41AD-B90E-AD63DBD9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A181-799D-4071-98ED-11420FF3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8B9A-BF8A-4D5B-ABD1-0B84D72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89D-2803-4B92-BAAD-ED4DED2D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DB73-5A16-4348-AA41-F9B1D95F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AC16-0679-421A-9E7B-41CDD5A9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18E4-AD94-4BFC-9F75-1E1074C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E78-B328-491B-BEA7-70863752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D88F-DF30-4E2A-983C-A6743D6D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3E7F-CD36-4117-8FEE-435F409F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E56B-CD3F-42D4-B910-03D8611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2CF-DE74-47C3-9B36-6061A64E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C2B4-559C-4157-866E-9A880A92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181-815A-4403-B3F8-98C39FD5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C1F-95D8-4121-A3CB-704CEE54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C0C-592A-492F-BEA4-A31EC580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1AE-B587-4FD3-8A5E-5D09EF8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032-4CCB-4D15-9CCE-CDB243C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2B7-72A4-4F52-9923-D1BC66C3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0CF-7D44-4C1C-9197-C0726B1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EA57-DADA-4967-AC59-6B76B0EB3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0D9-4386-4DD5-8710-44F9CE0AC5E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am Awesome += 5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960"/>
            <a:ext cx="7924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PICo Design Presenta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ouglas Grosvenor, Terence Crumbley, Jeffrey Gaither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ulse Gener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193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484360" y="1125360"/>
            <a:ext cx="4221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ulse Sig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lue – Input sig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range – Output sig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70358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ord Line Gener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Rectangle 7" descr=""/>
          <p:cNvPicPr/>
          <p:nvPr/>
        </p:nvPicPr>
        <p:blipFill>
          <a:blip r:embed="rId2"/>
          <a:stretch/>
        </p:blipFill>
        <p:spPr>
          <a:xfrm>
            <a:off x="0" y="3362400"/>
            <a:ext cx="9144000" cy="3495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19280" y="1197000"/>
            <a:ext cx="540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6 to 64 Decod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2478240" cy="558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1523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sting</a:t>
            </a:r>
            <a:br>
              <a:rPr sz="4400"/>
            </a:b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proach On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rner Simul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our Bitcell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C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ased on extracted layou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proach Tw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ull word, read/wri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tive/Inactiv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ifferent wor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of Read/Writ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709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nalysi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w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re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rea*(Delay^2)*Pow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067280" y="1557360"/>
          <a:ext cx="4681080" cy="3286080"/>
        </p:xfrm>
        <a:graphic>
          <a:graphicData uri="http://schemas.openxmlformats.org/drawingml/2006/table">
            <a:tbl>
              <a:tblPr/>
              <a:tblGrid>
                <a:gridCol w="1835280"/>
                <a:gridCol w="28458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ic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5e11 mW*n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cell are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.4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e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M 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43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39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005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ense Amp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573200"/>
            <a:ext cx="8208720" cy="528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260280"/>
            <a:ext cx="27572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2 to 4 Decod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1238400"/>
            <a:ext cx="6800760" cy="561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116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2 to 4 Enable Dec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2238480"/>
            <a:ext cx="8372160" cy="4619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317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itcel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1252440"/>
            <a:ext cx="7056360" cy="560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443640" y="549360"/>
            <a:ext cx="24732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490760"/>
            <a:ext cx="91440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cont’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262160"/>
            <a:ext cx="76424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cont’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4883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nse Am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ring problem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ICo S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ow pow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1 Mb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Long lifetim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tric: (Total Power)^2 * Delay * Are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igh spee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64 kb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ncryption/Compression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tric: (Total Power) * Delay^2 * Are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32bit wor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2 words per ro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64 rows per bl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4096 bits per bl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16 blocks arra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rray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688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ck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1162080"/>
            <a:ext cx="74566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itcell Layou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sign Cont’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ad/Write Signal System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ulse Generator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L Generat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Read/Write Signal Syste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>Doug</dc:creator>
  <dc:description/>
  <dc:language>en-US</dc:language>
  <cp:lastModifiedBy>labtemp</cp:lastModifiedBy>
  <dcterms:modified xsi:type="dcterms:W3CDTF">2007-12-06T19:02:52Z</dcterms:modified>
  <cp:revision>1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